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4BD8-CB79-4A57-8D17-8F0B3459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E403-4442-47A1-95CD-FE27C696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90D0-A8B2-4074-9C43-6849426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AC6E-74E2-42B7-A7BC-EC2AB85F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FD8-3EBF-49F2-BB0C-D2F8C861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F29-544F-481F-8913-C83C9F0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27D-6D29-4E4E-87DD-BE22336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EC5-0025-4D60-96F0-649C4C50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88D-7805-45DC-BEDC-EE2B7D05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6ED0-8A9F-4D35-82FE-6A919C8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274-0F3D-4006-A793-5038B21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4AF2-EFB7-4475-A823-B2D989B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E5C6-ECE1-4D8B-85F6-9763B5E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CEA-34A3-41D9-B490-C19C027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8EF-2532-48F7-8402-008827F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939-BC20-440F-A1A8-0D40E3D9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CE2-2DCE-4467-A365-DFC092B1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70D0-FF6C-42AE-9868-50A9068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4A8D-D71C-48B3-845D-BE85CE48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B4AA-79C6-4142-8C9B-64D407F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C3FF-82B9-48F8-8A71-872B677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151B-D80B-4193-A6E6-377CBEB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554D-DD86-493C-9BFA-AC28AD2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6CC2-E53B-495E-ABED-0C2ECFD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DC3A-917F-4C79-8299-8A6BB54302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A0B-53B7-4461-9E77-A6A3983441D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5328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467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Моята вяра 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Тебе, о, Хрис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ител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воя съм творб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й моята молб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могни да съ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сегда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504440"/>
            <a:ext cx="96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 любов Си Ти бог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та благо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ри ми с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Агне Божи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то страда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уди в душата 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ствен плам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1521720"/>
            <a:ext cx="92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През целия живо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воя лек хом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оне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воя път ме во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ях освобод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ме оставяй 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заблудя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4-27T17:01:12Z</dcterms:modified>
  <cp:revision>76</cp:revision>
  <dc:subject/>
  <dc:title>Slide 1</dc:title>
</cp:coreProperties>
</file>